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1AB-6315-4377-AED9-953386E4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C18F-3E53-4C76-A662-AC74F3D6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555-ED0E-4D5E-AFBC-659D74CC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79CA-0FFF-4CEA-9A9C-FB0E37A8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8643-59DA-4B87-A266-570D76A8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58EB-09D2-415A-9AED-6F8C17B9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4504-F654-4FA6-91CA-C9DE8981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EBD4-F8E4-4B72-A0AB-F847DDB9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CA34-BFB3-402E-A742-01EA51AB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A7A0-D6D4-467A-9D7B-95837B57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9C9B-B084-48B4-9615-CB19D6F8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11B-BC3C-45A2-A777-80D72C07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8420-7297-4D7A-A663-874324A3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39F2-2FCE-45F0-99A2-916CCF05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406A-B963-4256-89F8-74AD9C9C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0E48-B6F1-42C0-AB9C-DCC51949E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7C82-FC2B-4EC6-8C89-D676F826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B21-48D5-483E-AE46-A26C2543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268-8677-431E-9D15-6D1B9927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C13-18AE-4B6C-A4F9-3959C878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AAAD-EE68-41BA-96C9-F6F21DD2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71AB-2883-403A-A995-2A025731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564-552C-48CF-876F-D3FE5393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057-CCAA-48BF-BEE0-8979FFE5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BCF4-F155-42F2-A890-413E288F059C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66ff"/>
                </a:solidFill>
                <a:latin typeface="Arial Black"/>
              </a:rPr>
              <a:t>Click to edit the title text format</a:t>
            </a:r>
            <a:endParaRPr b="0" lang="en-US" sz="6600" spc="-1" strike="noStrike">
              <a:solidFill>
                <a:srgbClr val="6666ff"/>
              </a:solidFill>
              <a:latin typeface="Arial Black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8" name="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/>
              <a:ahLst/>
              <a:rect l="l" t="t" r="r" b="b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FE36-7AA7-45F8-9CBB-8216C2B125A2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1.dcccd.edu/cat0102/courseDescriptions/detail.cfm?course=RTVB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ff"/>
                </a:solidFill>
                <a:latin typeface="Arial Black"/>
              </a:rPr>
              <a:t>Achllem technology college</a:t>
            </a:r>
            <a:endParaRPr b="0" lang="en-US" sz="6000" spc="-1" strike="noStrike">
              <a:solidFill>
                <a:srgbClr val="6666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876560" y="4733640"/>
            <a:ext cx="4259160" cy="377640"/>
          </a:xfrm>
          <a:prstGeom prst="rect">
            <a:avLst/>
          </a:prstGeom>
          <a:solidFill>
            <a:srgbClr val="6666ff"/>
          </a:solidFill>
          <a:ln w="12600">
            <a:solidFill>
              <a:srgbClr val="6666ff"/>
            </a:solidFill>
            <a:miter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 Sasha Willi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Offers video produc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Video room students learn audio and video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1904760" cy="2577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 rot="1622400">
            <a:off x="4800240" y="3276720"/>
            <a:ext cx="285768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afé @ lunch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tudents after a long day of work eat lunch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 rot="20396400">
            <a:off x="609480" y="2742840"/>
            <a:ext cx="3276720" cy="2590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 rot="1065600">
            <a:off x="5562360" y="25905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429000" y="4819680"/>
            <a:ext cx="285768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Lifestyle on the campus.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tudents are allowed enjoyable frenzies @school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0" y="4038480"/>
            <a:ext cx="47624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Degree plans of technology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tudents have key access for video technology degree plans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ff"/>
                </a:solidFill>
                <a:uFillTx/>
                <a:latin typeface="Arial"/>
                <a:hlinkClick r:id="rId1"/>
              </a:rPr>
              <a:t>RTVB 1305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 is one of the plans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rot="20497200">
            <a:off x="1142640" y="3962160"/>
            <a:ext cx="2381400" cy="1971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 rot="2217000">
            <a:off x="5638680" y="4191120"/>
            <a:ext cx="2857680" cy="203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6:09:27Z</dcterms:created>
  <dc:creator>769579</dc:creator>
  <dc:description/>
  <dc:language>en-US</dc:language>
  <cp:lastModifiedBy>769579</cp:lastModifiedBy>
  <dcterms:modified xsi:type="dcterms:W3CDTF">2009-02-24T16:17:54Z</dcterms:modified>
  <cp:revision>1</cp:revision>
  <dc:subject/>
  <dc:title>Achllem technology college</dc:title>
</cp:coreProperties>
</file>